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6A4-77FD-4024-85F6-1D913EE0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6D3-4D80-4BE9-B33A-F73A4ADE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449-F5F3-42D5-BFBD-35E9EE45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DD87-3F5C-4E88-9FB7-3B5739BF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A08D-A071-42BC-8380-711E809F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1C42-C040-440D-80E8-DEF0DE05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84F5-74DB-4C9A-8766-D867CDBE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B502-51E0-49B2-9645-AFE190FE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C80C-A417-4E4A-8193-4FF87256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BB6A-0723-4F33-A3F2-4DB67348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7E03-8EB5-4EA1-AE74-79323FC5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A3B-5398-4507-B39D-DB8B63B5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0E09-EBB3-4E90-860F-74AF5558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D412-442E-4049-83C8-72CEFA74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38D6-16E0-4605-B1AE-C2B3A592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0D9D-BBB0-485E-BC17-F72F12D4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8E74-2714-48FA-9096-BCA1C5DD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2AA-C65B-405D-A2A4-96C985F8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6646-87C0-48B0-9D54-B892EBF1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2E07-0D7A-479A-BB08-DABCE71E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D7B-276F-4C87-8D64-2BB9B679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11E-6CBE-42EA-AEC6-331062AE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8AB-C2ED-4CB8-A002-1588E91D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2C7-D296-44B1-893C-32ED1C10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194A-1D85-4A4C-8942-98440568D9D1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70BD-3D35-4F59-AA43-0D6644D41EE4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mzetijelkepek.hu/" TargetMode="External"/><Relationship Id="rId2" Type="http://schemas.openxmlformats.org/officeDocument/2006/relationships/hyperlink" Target="http://www.nemzetijelkepek.hu/" TargetMode="External"/><Relationship Id="rId3" Type="http://schemas.openxmlformats.org/officeDocument/2006/relationships/hyperlink" Target="http://www.nemzetijelkepek.hu/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unántúli várak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észítette Nagy Ot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ősze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00000" y="1798560"/>
            <a:ext cx="6524640" cy="4894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197840" y="358920"/>
            <a:ext cx="1650960" cy="12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árvá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0" y="358920"/>
            <a:ext cx="1219320" cy="1563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98560" y="1798560"/>
            <a:ext cx="6502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üme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898560" y="1798560"/>
            <a:ext cx="6524640" cy="4894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556400" y="358920"/>
            <a:ext cx="121932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ráso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73440" y="2133360"/>
            <a:ext cx="591336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fotók saját készítésű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címerek forráshelye:</a:t>
            </a:r>
            <a:br>
              <a:rPr sz="2600"/>
            </a:br>
            <a:r>
              <a:rPr b="0" lang="hu-HU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hu-HU" sz="2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nemzetijelkepek.hu</a:t>
            </a:r>
            <a:r>
              <a:rPr b="0" lang="hu-HU" sz="2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/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044720" y="2852640"/>
            <a:ext cx="12157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20:00:19Z</dcterms:created>
  <dc:creator>Rozgonyi-Borus Ferenc</dc:creator>
  <dc:description/>
  <dc:language>en-US</dc:language>
  <cp:lastModifiedBy>Rozgonyi-Borus Ferenc</cp:lastModifiedBy>
  <dcterms:modified xsi:type="dcterms:W3CDTF">2008-07-15T21:37:15Z</dcterms:modified>
  <cp:revision>4</cp:revision>
  <dc:subject/>
  <dc:title>1. dia</dc:title>
</cp:coreProperties>
</file>