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6D1-92A4-4371-9379-8CDFB208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A6E-72CC-42B8-818E-5295495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E07-D669-4254-B46B-7FBDB505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24A-B6FE-4FB6-A7AD-C45AB220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CAF-59A7-464B-BAEA-D682D95C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177-4082-4C68-9BE5-09D59FA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0F7-05ED-4A4A-99E5-3156BAF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721-F705-4721-B9A1-C1AD5AC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1C1-4E28-4303-8F6C-F1294E0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DDC-9915-4885-91F0-F0933BA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BBA-42F7-4F57-BE17-1BC8394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F71-240A-482B-80C9-7F85B73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BE1-36CC-450E-B305-B915709A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audio" Target="../media/drumroll.wav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k ezek az eszközö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3780000" y="5300640"/>
            <a:ext cx="9428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6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30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2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90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8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6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1441440" cy="127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11280" y="2131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237440" y="34624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948360" y="5157720"/>
            <a:ext cx="1905120" cy="154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284720" y="2276640"/>
            <a:ext cx="1441440" cy="122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187960" y="3583080"/>
            <a:ext cx="1905120" cy="1358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93236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835280" y="5373720"/>
            <a:ext cx="1584360" cy="12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395280" y="5300640"/>
            <a:ext cx="1127160" cy="133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108000" y="356076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1"/>
          <a:stretch/>
        </p:blipFill>
        <p:spPr>
          <a:xfrm>
            <a:off x="250920" y="2131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/>
          <a:stretch/>
        </p:blipFill>
        <p:spPr>
          <a:xfrm>
            <a:off x="2124000" y="3500280"/>
            <a:ext cx="1873440" cy="13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4002120" y="3573360"/>
            <a:ext cx="1146240" cy="1459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164360" y="1916280"/>
            <a:ext cx="1763640" cy="1422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az 1-ben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5"/>
          <a:stretch/>
        </p:blipFill>
        <p:spPr>
          <a:xfrm>
            <a:off x="3780000" y="5300640"/>
            <a:ext cx="942840" cy="123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6"/>
          <a:stretch/>
        </p:blipFill>
        <p:spPr>
          <a:xfrm>
            <a:off x="2771640" y="1628640"/>
            <a:ext cx="36198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3767 L 0.18108 0.0252 E">
                                      <p:cBhvr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90476E-006 L 0.17326 0.2203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49191E-006 L -0.14167 -0.24133 E">
                                      <p:cBhvr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71059E-007 L -0.18108 0.0104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3.03745E-006 L -0.20468 0.22029 E">
                                      <p:cBhvr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3.41193E-006 L -0.04723 0.22007 E">
                                      <p:cBhvr>
                                        <p:cTn id="8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3625E-008 L 0.05503 -0.26213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1.43319E-006 L 0.22829 -0.25173 E">
                                      <p:cBhvr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6385E-006 L -0.38594 0.27277 E">
                                      <p:cBhvr>
                                        <p:cTn id="1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78086E-006 L 0.38594 0.22006 E">
                                      <p:cBhvr>
                                        <p:cTn id="105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8641E-006 L 0.40937 -0.27277 E">
                                      <p:cBhvr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76468E-006 L -0.37014 -0.24133 E">
                                      <p:cBhvr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01711E-007 L -0.37795 0.0104 E">
                                      <p:cBhvr>
                                        <p:cTn id="11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04808E-006 L 0.39375 2.04808E-006 E">
                                      <p:cBhvr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7:16:57Z</dcterms:created>
  <dc:creator>Rozgonyi-Borus Ferenc</dc:creator>
  <dc:description/>
  <dc:language>en-US</dc:language>
  <cp:lastModifiedBy>Rozgonyi-Borus Ferenc</cp:lastModifiedBy>
  <dcterms:modified xsi:type="dcterms:W3CDTF">2008-07-15T08:52:59Z</dcterms:modified>
  <cp:revision>6</cp:revision>
  <dc:subject/>
  <dc:title>1. dia</dc:title>
</cp:coreProperties>
</file>