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B0FA-E6F6-4871-BAC1-112C070A1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9A51-E1BA-4F75-B923-DF53C6FC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CD5A-C01F-4E0D-B4AF-080EC864A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DFF4-ED9E-4F20-B874-2A1787CEF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B87F-9B3B-42BD-93C8-8DC7336A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AEBC-30A0-4ABD-BF45-205694D0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7BE9-71FF-42E7-B543-018DF970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9D40-B0BD-4CD2-BE88-A360B5FC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09A4-EA71-463B-9581-23975726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5567-771A-435E-8487-2BBDD451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5324-5EBB-405E-947B-041F3999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08FC-65AE-4391-91C6-EE889E27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7C53-26AB-4601-98F3-460B756A0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t tud a PD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zsebszámítógép szolgáltatás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796000" y="2205000"/>
            <a:ext cx="1441440" cy="1276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411280" y="213192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237440" y="346248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948360" y="5157720"/>
            <a:ext cx="1905120" cy="1549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4284720" y="2276640"/>
            <a:ext cx="1441440" cy="1220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5187960" y="3583080"/>
            <a:ext cx="1905120" cy="1358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4932360" y="4952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1835280" y="5373720"/>
            <a:ext cx="1584360" cy="1204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395280" y="5300640"/>
            <a:ext cx="1127160" cy="1330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108000" y="356076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250920" y="213192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2124000" y="3500280"/>
            <a:ext cx="1873440" cy="1386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4002120" y="3573360"/>
            <a:ext cx="1146240" cy="1459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4"/>
          <a:stretch/>
        </p:blipFill>
        <p:spPr>
          <a:xfrm>
            <a:off x="7164360" y="1916280"/>
            <a:ext cx="1763640" cy="1422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k ezek az eszközö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5"/>
          <a:stretch/>
        </p:blipFill>
        <p:spPr>
          <a:xfrm>
            <a:off x="3708360" y="5373720"/>
            <a:ext cx="91440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7:16:57Z</dcterms:created>
  <dc:creator>Rozgonyi-Borus Ferenc</dc:creator>
  <dc:description/>
  <dc:language>en-US</dc:language>
  <cp:lastModifiedBy>Rozgonyi-Borus Ferenc</cp:lastModifiedBy>
  <dcterms:modified xsi:type="dcterms:W3CDTF">2008-07-15T06:58:39Z</dcterms:modified>
  <cp:revision>4</cp:revision>
  <dc:subject/>
  <dc:title>1. dia</dc:title>
</cp:coreProperties>
</file>