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8BD-D773-4D80-B7D7-4C085F5C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08D-4AE2-4D72-A6F5-AE43844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045-A0ED-4898-84A1-10339C56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B6A-B672-43D6-9D36-240C1C8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EEB3-865E-4426-88DA-D6FCA019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7200-65C0-402D-81CC-BD78694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3A5A-4FEE-4E52-AC46-FC6410FD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29FE-610E-4D2C-92FF-9E878B4D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DD9B-48D5-4672-966D-EA912DDB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6932-D4D8-4941-89A4-F433433B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4E7D-CF97-4ADC-8B66-423CDDB9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446-115C-4F78-BAB7-3715C2F5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4664-1731-4727-BF7C-C172022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E17-A3E9-4FCB-8393-7AE5B9F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EA25-4677-428C-8376-F498A5A5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4DD-F36F-470E-BE49-9262A196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58CA-31FC-4F30-BE80-BFCEF7A5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940-51A7-4685-86F1-101910C6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A85-A0CD-4765-ABEA-ED9ABBB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181-33B0-449B-8FBF-1DED8156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D06-F379-4898-BED5-F9DF23A5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FEC-B34C-4E95-84EB-BAEAD44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D9A-3103-4FEE-B0DE-DCFAF8E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80D-525F-46F0-AE05-DBC14FD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85A0-46C1-41CA-9408-BF828AF03967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F1D-0DF6-4CE2-BAD2-ACA1E308300A}" type="slidenum"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it tud a PDA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sebszámítógép szolgáltatá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PDA szolgáltatása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gyzetfüz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táridőnapl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ámológé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Ó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3 lejátsz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átékkonz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ktaf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épnézeget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ényképezőgé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lmfelvev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ádi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sebtév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fonregisz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telef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6:21:39Z</dcterms:created>
  <dc:creator>Rozgonyi-Borus Ferenc</dc:creator>
  <dc:description/>
  <dc:language>en-US</dc:language>
  <cp:lastModifiedBy>Rozgonyi-Borus Ferenc</cp:lastModifiedBy>
  <dcterms:modified xsi:type="dcterms:W3CDTF">2008-07-14T16:42:31Z</dcterms:modified>
  <cp:revision>9</cp:revision>
  <dc:subject/>
  <dc:title>Találd ki, mi ez!</dc:title>
</cp:coreProperties>
</file>