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254-569D-4808-BE59-CC6E1860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61EE-6B4D-4C57-89F5-CAAC93E0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15E-10BC-43FE-B27E-737BD6E1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2818-8ADF-47C2-A04B-66F431E5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51A-E4B2-4860-BD97-51141F8D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BED-F9B5-4FA7-A324-4057FEA4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766-641C-4F04-992D-99AB1FF2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1A1-200A-4DF8-A6E7-8C96A80B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68E8-06E2-4DAB-9782-F825EC97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9D1-9E2E-40F0-BE87-E430E15A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5BDD-CC81-4338-AAA7-5F5B6731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3B7-95DA-487D-8258-899A3A50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D258-06D4-4274-ACE1-9CD46E5E539B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 tud a P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sebszámítógép szolgáltatás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DA szolgáltatás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gyzetfüz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táridőnap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ámológé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Ó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3 lejátsz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átékkonz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ktaf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épnézeget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ényképezőgé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mfelvev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ád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ebté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fonregisz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telef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6:21:39Z</dcterms:created>
  <dc:creator>Rozgonyi-Borus Ferenc</dc:creator>
  <dc:description/>
  <dc:language>en-US</dc:language>
  <cp:lastModifiedBy>Rozgonyi-Borus Ferenc</cp:lastModifiedBy>
  <dcterms:modified xsi:type="dcterms:W3CDTF">2008-07-14T15:58:12Z</dcterms:modified>
  <cp:revision>6</cp:revision>
  <dc:subject/>
  <dc:title>Találd ki, mi ez!</dc:title>
</cp:coreProperties>
</file>